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2C7C306-2F4A-4A4D-A608-9D6B5CC8E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96F082D-426F-4265-8CD4-BC9271638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671F0-D36A-4212-915F-5F64990EC9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D72C45-2FCF-4750-9CAB-690925CD7E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4C7D3E-D5E8-490C-8A20-996FB910E9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8FCAC9-F19A-4837-897E-EF8DAAA021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ABFCE5B-6CEE-4909-BF9D-B2768DC95D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E2B0D-A1AE-457B-99EF-27FE7FD6B4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18ACD2-8E31-4F02-8312-27E73DDA30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3E5EBBC-DC7F-45E3-BFA6-26C120E1C3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D5E7B16-5D13-4362-B013-30F418F2E7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948605-C770-43C6-8279-10933A0DE0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EC2F9-0444-4FC4-ABAE-C56AA3659B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D3822F-7359-49A0-BB36-187C4F273C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07EB-5F52-4BDC-BC1C-606D5C91A55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oval"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oval"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oval"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oval"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oval"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oval"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oval"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oval"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oval"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oval"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oval"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oval"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oval"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oval"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oval"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oval"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oval"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oval"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oval"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oval"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oval"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oval"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oval"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oval"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oval"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oval"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oval"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oval"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oval"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oval"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oval"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oval"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oval"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oval"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oval"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